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47FC-4A43-42F5-965B-CC70B66CC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D53A-4E9F-4567-B252-86064B45A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72A7-5073-4B4B-AE3E-8356CCC85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F0BE-1D4B-402B-8B1A-7D7B4CF54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5550-53AE-48F3-BA3E-C19833F0C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3E61-654D-4296-95A6-4D7BC89D6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6E0D-3B0F-4A01-94C4-1CDD51F85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263E-EB67-475C-BF80-15D27A9F9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6A47-1EDD-49A6-9F18-4838C49ED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766E-9BB1-446D-98AC-2771F9E7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043A-C7F0-4760-8ABD-AC34C25A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CCED-C2F4-419C-A6F2-A882E32E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1B31C-52FB-4524-BA7C-05ABC27E8CC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07920"/>
            <a:ext cx="91440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600" spc="-1" strike="noStrike">
                <a:solidFill>
                  <a:srgbClr val="ffffff"/>
                </a:solidFill>
                <a:latin typeface="Arial"/>
                <a:cs typeface="????Boutros Rokaa"/>
              </a:rPr>
              <a:t>من كاس المحبّي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707920"/>
            <a:ext cx="91440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من كاس المحبّي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قربان الفِدا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عم يدخل لقلبي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عا طول المدى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707920"/>
            <a:ext cx="914400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Arial"/>
                <a:cs typeface="Akhbar MT"/>
              </a:rPr>
              <a:t>رَحْ شيل الأشواك</a:t>
            </a:r>
            <a:br>
              <a:rPr sz="9600"/>
            </a:br>
            <a:r>
              <a:rPr b="1" lang="ar-SA" sz="9600" spc="-1" strike="noStrike">
                <a:solidFill>
                  <a:srgbClr val="ffffff"/>
                </a:solidFill>
                <a:latin typeface="Arial"/>
                <a:cs typeface="Akhbar MT"/>
              </a:rPr>
              <a:t>من نفسي العطشاني</a:t>
            </a:r>
            <a:br>
              <a:rPr sz="9600"/>
            </a:br>
            <a:r>
              <a:rPr b="1" lang="ar-SA" sz="9600" spc="-1" strike="noStrike">
                <a:solidFill>
                  <a:srgbClr val="ffffff"/>
                </a:solidFill>
                <a:latin typeface="Arial"/>
                <a:cs typeface="Akhbar MT"/>
              </a:rPr>
              <a:t>تَا حتى تلقاك</a:t>
            </a:r>
            <a:br>
              <a:rPr sz="9600"/>
            </a:br>
            <a:r>
              <a:rPr b="1" lang="ar-SA" sz="9600" spc="-1" strike="noStrike">
                <a:solidFill>
                  <a:srgbClr val="ffffff"/>
                </a:solidFill>
                <a:latin typeface="Arial"/>
                <a:cs typeface="Akhbar MT"/>
              </a:rPr>
              <a:t>ربّي بالقرباني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707920"/>
            <a:ext cx="91440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من كاس المحبّي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قربان الفِدا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عم يدخل لقلبي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عا طول المدى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565360"/>
            <a:ext cx="9144000" cy="1470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حبوب القمح لصارت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قربانة يسوع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قلوب العالم زارت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سكنت بالضلوع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707920"/>
            <a:ext cx="91440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من كاس المحبّي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قربان الفِدا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عم يدخل لقلبي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عا طول المدى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565360"/>
            <a:ext cx="9144000" cy="1470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وعنقود اللي جمعتو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من كرم المحبّي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بكلمه حوَّلتو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لدمَّك يا ربي.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07920"/>
            <a:ext cx="91440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من كاس المحبّي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قربان الفِدا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عم يدخل لقلبي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عا طول المدى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4:42:14Z</dcterms:created>
  <dc:creator>-</dc:creator>
  <dc:description/>
  <dc:language>en-US</dc:language>
  <cp:lastModifiedBy>-</cp:lastModifiedBy>
  <dcterms:modified xsi:type="dcterms:W3CDTF">2003-04-19T14:45:09Z</dcterms:modified>
  <cp:revision>2</cp:revision>
  <dc:subject/>
  <dc:title>من كاس المحبّي قربان الفِدا عم يدخل لقلبي عا طول المدى</dc:title>
</cp:coreProperties>
</file>